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40DB-A8E5-4C51-A512-42ACE85B3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35A4-7BE0-4EE9-AAA8-CDB72778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AABA-CF8E-41DC-849A-C23EDF347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9186-B311-4F88-B287-7EC4B8B0B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A881-7076-419E-9EE3-A2614B331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8E28-3EF7-4354-94BE-B77834B39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DE32-C25B-4E69-844F-B327260B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D1BF-2E9A-41C1-9B19-576E08632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_x0017_UNFPA Logo 2/BANNER.tif                                        00059BBF_x0006_Muschi                         ABA78158:"/>
          <p:cNvPicPr/>
          <p:nvPr/>
        </p:nvPicPr>
        <p:blipFill>
          <a:blip r:embed="rId2"/>
          <a:stretch/>
        </p:blipFill>
        <p:spPr>
          <a:xfrm>
            <a:off x="0" y="0"/>
            <a:ext cx="914076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a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2133720" y="5029200"/>
            <a:ext cx="57909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ffffff"/>
                </a:solidFill>
                <a:latin typeface="UNFPA-Semibold"/>
              </a:rPr>
              <a:t>Donor Coordination Forum</a:t>
            </a:r>
            <a:br>
              <a:rPr sz="3600"/>
            </a:br>
            <a:r>
              <a:rPr b="0" lang="bs-BA" sz="2400" spc="-1" strike="noStrike">
                <a:solidFill>
                  <a:srgbClr val="ffffff"/>
                </a:solidFill>
                <a:latin typeface="UNFPA-Semibold"/>
              </a:rPr>
              <a:t>Sarajevo, 30th June 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_x0019_UNFPA-Logo_Intro-page.gif                                      00059BBF_x0006_Muschi                         ABA78158:"/>
          <p:cNvPicPr/>
          <p:nvPr/>
        </p:nvPicPr>
        <p:blipFill>
          <a:blip r:embed="rId1"/>
          <a:stretch/>
        </p:blipFill>
        <p:spPr>
          <a:xfrm>
            <a:off x="2146320" y="765000"/>
            <a:ext cx="5181480" cy="2444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133720" y="3141720"/>
            <a:ext cx="55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ing a world where every pregnancy is wanted, every childbirth is safe and every young person's potential is fulfi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71640" y="2276640"/>
            <a:ext cx="7416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11360" y="54936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ffffff"/>
                </a:solidFill>
                <a:latin typeface="UNFPA-Semibold"/>
              </a:rPr>
              <a:t>Mandate and busines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95280" y="198900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PD 1994, Ca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SP 2014-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CPD 2015-201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y, advocacy and capacity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4788000" y="2451240"/>
            <a:ext cx="39513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UNFPA Work in B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989000"/>
            <a:ext cx="8424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P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2015-2019 outlines 4 pillars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R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BV/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ontext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 Bi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ow fertility rate and use of modern contracep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Youth compris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¼ of population, but unemployment is 6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gh prevalence rate of GBV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ry 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woman is a victim of some form of violence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). Legacy of 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g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eing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population (by 2050, 40% over 65 in Bi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1 S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24000" y="177336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RH pol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s and quality improvement in maternal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provision on family planning, maternal health and cervical can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ing Minimum Initial Service Package to address the need of women, youth and elderly in emergency sit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2 Y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68360" y="191628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 policies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disadvantaged group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informal sexuality education through youth peer outreach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omprehensive sexuality education and advocacy for inclusion in formal educational system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ing early marriages, including teen pregn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89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3 GBV/CRS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50920" y="191628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 focus on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RS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health sector capacity building and referral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, addressing stigm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UN JP –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, Canada, UN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gender-transformative approaches and strengthening the engagement of men and boys on gender equality and gender-based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ment of SRHR reporting mechanis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4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468360" y="191628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apacities for population data collection, analysis, dissemination and use for informed policy development 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ens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D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 of ageing policies in line with the Madrid International Plan of Action on Ag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4:10:48Z</dcterms:created>
  <dc:creator>Jurgen</dc:creator>
  <dc:description/>
  <dc:language>en-US</dc:language>
  <cp:lastModifiedBy>Gabrijela Jurela</cp:lastModifiedBy>
  <dcterms:modified xsi:type="dcterms:W3CDTF">2016-06-28T15:43:38Z</dcterms:modified>
  <cp:revision>195</cp:revision>
  <dc:subject/>
  <dc:title>No Slide Title</dc:title>
</cp:coreProperties>
</file>